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6.png" ContentType="image/png"/>
  <Override PartName="/ppt/media/image4.pct" ContentType="image/x-pict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558-876B-4498-92EB-6D642760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4FE-70F4-4838-AD77-4C45592D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86A-8B23-470E-87A5-78078074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C10-44CA-481B-BE52-1F5F9395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CCCF-6D74-4C1C-A594-340AB1FB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1921-C756-4C63-9D0B-254E4211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192A-C577-4D6A-90FA-68C7D76A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5D8A-8597-4CA5-8A47-A299E653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1D10-4FE1-4BF2-BE8F-3EC2325D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360B-EBA3-42D9-9F02-A6CBD288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6D4-B991-407C-A6A7-6938202A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A80-9F76-4847-AF32-FAA7F5AE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AD06-D228-4513-A8F0-7C4E5EE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3C1B-88A8-46DE-9131-D00BD180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9E1C-8146-403A-B397-0DF7A3D0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A498-D7CD-4585-9314-A029FF04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90476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4093920"/>
            <a:ext cx="23306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6D08-039B-4B92-A694-707086E6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C73-6C48-4E3D-AD21-C8175BCB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82A-C75E-4F93-AB61-F26BDB0B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64C-E57B-4CEB-B2C5-F99705A0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59A-3714-4E86-A6D5-4C55EB94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0F3-8514-4F11-8AFD-1348FC3F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409392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77F-42EB-43D2-A2A7-91E7725A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904760"/>
            <a:ext cx="3532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93920"/>
            <a:ext cx="7238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540-7334-411F-B8A8-52EF5521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7544-7EE7-4D1F-848E-ADEECA0CF33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9420-D571-43E0-AD68-434B1BC5CAB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eveloping Evaluation and Instruments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29000" y="38095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Regis Graduate School Presentation by Cindy Miglai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Shannon Kee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Tips for constructing True/False questions: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must be entirely 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 only one thought or idea in each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format spar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48520" y="426708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specific form of multiple-choi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learners to identify relationship between a entries and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when each listing forms a category of related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testing ability to discrimin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amount of material can be covered and conden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95680" y="5334120"/>
            <a:ext cx="1764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Tips for constructing Matching</a:t>
            </a:r>
            <a:br>
              <a:rPr sz="2400"/>
            </a:b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questions: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number of items to a max of six or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length of the items to a word, phrase or brief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ne or two extra items in response column (distra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Instructional Tests &amp; Test Item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most cognitive-domain objectives are evaluated by various types of paper-and-pencil tests grouped into two categories: </a:t>
            </a:r>
            <a:r>
              <a:rPr b="0" lang="en-US" sz="2000" spc="-1" strike="noStrike" u="sng">
                <a:solidFill>
                  <a:srgbClr val="d50c17"/>
                </a:solidFill>
                <a:uFillTx/>
                <a:latin typeface="Arial"/>
              </a:rPr>
              <a:t>objective and constructe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ed Respon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learners to plan answer and express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ange from one word response to an essay of severa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cognitive objectives can be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ing can b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formats used including </a:t>
            </a:r>
            <a:r>
              <a:rPr b="0" lang="en-US" sz="2000" spc="-1" strike="noStrike">
                <a:solidFill>
                  <a:srgbClr val="d50c17"/>
                </a:solidFill>
                <a:latin typeface="Arial"/>
              </a:rPr>
              <a:t>short-answer items, essay questions, and problem-solving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What are the differences between constructed-response test questions such as short-answer items, essay questions, and problem-solving questions?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earners to supply a single word, a few words, or a response to complete a statement/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A “Fill in the blank” and “Comple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are specific, scoring i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est a large amount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recall rather than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ful for testing higher levels of cognitiv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learners to organize and express their thoughts though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” essay: may be restricted to a few paragraphs or a single page and requires a highly focuse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” essay: allows learners  more opportunity to express and defend a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ore difficult to grade, but generally easier to con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nstructors with considerable information about learners understanding of the content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Tips for constructing Essay questions: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questions as specific and focused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students of grading criteria an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r outline an answ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give students a choice of essays- have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respond to the sam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essays “in the blind” without knowing the writers id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lem-Solving Question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suited for evaluating higher-level cognitiv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are easy to con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ing can be a challenge depending on number and length of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corporate PBL (problem based learning) in classroom and assessments (see page 3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should provide a valid measure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ive tests validity depends on the appropriateness of content  tested and the clarity of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nstructed-response tests, the realibilty of scoring can become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Testing Knowledge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Consider before setting objectives and designing eval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nstructional objectives dictate the selection of evaluation meth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ype of test should I use to measure comprehension rather than simple memoriz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I asses what students like and don’t like about the instru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is not practical to assess skills in real-life situation, are there any alternative way of accessing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hould portfolios be evalu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How does this relate to me?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require procedures for classroom management and grading (as well as expertise in each subject they tea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10280" y="3809880"/>
            <a:ext cx="1676520" cy="258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362320" y="4267080"/>
            <a:ext cx="14097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6600"/>
                </a:solidFill>
                <a:latin typeface="Arial"/>
              </a:rPr>
              <a:t>The Relationship between Evaluation and Instructional Objectives</a:t>
            </a:r>
            <a:endParaRPr b="0" lang="en-US" sz="29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relationship between instructional objectives and test items must ex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ustomary to derive test items directly from the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recognized approaches to writing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: What the learner must do to master the specified knowledge is precisley st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: In which general outcomes and specific behavior outcome are describ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00200" y="304560"/>
            <a:ext cx="7238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verb component of both the behavioral and the cognitive style of objectives indicates the following possible forms of test item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Identify or recogn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hoosing an answer in an objective - type test ite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List or lab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ing a word or brief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state or descri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or speaking a short or lengthy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solve or calcu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ing or choosing a solution or numerical ans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operate or constr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ting the quality of performance or product agains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formulate or organ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a plan or choosing an order of items relative to a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predict or jud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ing a description of what is expected to happen or choosing from alternative dec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Instructional Tests &amp; Test Item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gnitive-domain objectives are evaluated by various types of paper-and-pencil tests grouped into two categories: </a:t>
            </a:r>
            <a:r>
              <a:rPr b="0" lang="en-US" sz="2000" spc="-1" strike="noStrike" u="sng">
                <a:solidFill>
                  <a:srgbClr val="d50c17"/>
                </a:solidFill>
                <a:uFillTx/>
                <a:latin typeface="Arial"/>
              </a:rPr>
              <a:t>objective and constructed response</a:t>
            </a:r>
            <a:r>
              <a:rPr b="0" lang="en-US" sz="2000" spc="-1" strike="noStrike" u="sng">
                <a:solidFill>
                  <a:srgbClr val="d54f41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questions for which the student must recognize and select an answer from two or more alternatives or respond to prepared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re free from writing except for marking an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generally composed of </a:t>
            </a:r>
            <a:r>
              <a:rPr b="0" lang="en-US" sz="2400" spc="-1" strike="noStrike">
                <a:solidFill>
                  <a:srgbClr val="d50c17"/>
                </a:solidFill>
                <a:latin typeface="Arial"/>
              </a:rPr>
              <a:t>multiple choice, true/false, and ma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What are the differences between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test questions such as multiple choice, true/false, and matching items?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Cho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ful and versatile type of objectiv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 stem (question or an incomplete state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once correct answer and several incorrect answers (distra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written at all levels of Blooms Tax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ore easily test test higher-order learning, including conceptu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omewhat limiting compared to essay questions on terms of testing synthesis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Tips for constructing Multiple Choice questions: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should be meaningful and relative to instruction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length of alternatives by moving as many words as possible to the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stem so it conveys a complet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answer should not stand out - watch phrasing an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using always and never in distractors, as well as “all of the above” and “none of the ab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rase questions is a positive direction such as: Which of the following is tr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select the position of a correct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50c17"/>
                </a:solidFill>
                <a:latin typeface="Arial"/>
              </a:rPr>
              <a:t>More on guidelines to constructing better multiple choice questions on pages 304 - 3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/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questions presented as statements that learners judge to be correct or 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content that can be answered by either/or should be presented in thi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fairly narrow  and often limited to factu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asy to write and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recognition rather than 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robability of guessing the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assessments to lower leve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8:23:15Z</dcterms:created>
  <dc:creator>Polton Elementary</dc:creator>
  <dc:description/>
  <dc:language>en-US</dc:language>
  <cp:lastModifiedBy>Polton Elementary</cp:lastModifiedBy>
  <dcterms:modified xsi:type="dcterms:W3CDTF">2010-06-23T18:52:28Z</dcterms:modified>
  <cp:revision>46</cp:revision>
  <dc:subject/>
  <dc:title>Developing Evalution and Instruments</dc:title>
</cp:coreProperties>
</file>